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3B8-8F73-4495-A7FF-2520215B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B4C-8314-4C99-8D3E-B0711CCC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359-7789-484C-ABF5-BC087BA3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414-30E0-4050-AFE3-2516E7CA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5D7A-68D2-4006-9C4C-8F0D22EE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1AE9-52E5-4AC6-8C3F-67AAEA91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2F9A-5FD2-4C8F-9D03-AD783368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454D-4457-4524-B53D-8707D931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57D8-2210-4DA2-8037-3503233F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D97E-D26D-41B5-8607-87C73ADD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FE81-4D30-4AD2-883E-50A47B12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A88-9CBD-499C-A77D-3AA743DE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C553-AE02-4F12-ACF5-9E69F503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E211-0743-4C49-A212-D90EC792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E147-069E-4321-967A-B2332B0A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7DB8-9A92-431E-9344-C0AEF070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2082-292F-4D90-A3CC-5D5E44F0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3D1F-9863-42ED-BB38-D7B553A3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59145-EECE-4E29-B5BB-B17C2AA5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EA82-E489-4480-AEA7-1D7EA260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692B-3622-4C46-8340-EB7F3375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B3483-CC6F-44B4-8AD2-DA50AA37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C57-CB7B-4ACF-9409-990C428A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9825-2C8D-42F2-A55E-81B1AC6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3874-3E73-4071-82B6-428B8D24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29196-0DAB-4A36-81B1-E7A0F552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CCAB-DFFF-47D4-BC2E-7A467DF9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EF033-F96B-4F51-88EB-86843CA1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4AD6-5C2C-4182-9E75-5DB3D498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A5CCA-A4C5-45B9-9605-ABFBC61C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20C5-C610-4E79-85AE-D3637802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BB659-1F60-44F5-9D3A-07ADD5AC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7B998-1062-4D3A-8E4C-76183647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44E-F362-48B5-9662-9CA5E679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03525-BF57-4AEC-9E90-2095C096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3A3A3-538A-4C75-ACCC-81E5EB4F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0FF0-5581-4284-A850-9F69C554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ED82-AA3F-4AC1-B44D-B4321CB9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20DE7-1949-4A7D-9765-C6E007B7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B3CA-0C39-442C-9D34-35B4E7B5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F644-BE6C-4F27-8C0A-01053975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EB2C-0C32-4FA2-A22A-CC50DECE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AC87-4D68-4258-B94D-B0C40705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EFBD2-EFDB-4C63-980C-43C62E3A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76A-94E7-48BB-A405-47D0EC6D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415CD-6865-4A03-AEFA-943586EE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E0BFB-A36B-407A-871D-C8E6F99D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8D5C-FB4D-4CC9-A107-FA964507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BD81F-43A3-4C86-A789-05473B5D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DAC9-79D0-4922-BD8D-CA999DF0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B1F86-8D33-49A3-91D2-863F310E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4875C-ACE2-47E6-BCA2-FED9C02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5EAE0-5F32-4D9A-BFA7-A2CB14FA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FFA84-B49A-4EDC-9BB4-8D14BE68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2DDD6-3579-4EC4-A443-718B462D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A5D-32E2-4663-B29C-9365F556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831B4-F45F-4E87-A666-B19BFFD7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C9A46-0BDE-4292-A8CB-5EC282E8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DBB2-B44D-4F12-B60C-DAC6AA46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28997-6722-4DBB-8D71-556D8A28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F9005-8AEF-4E4B-BDCE-4416F7E4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3662F-DB01-4A0C-8CC1-0935F1F5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E49A-6999-48ED-AE01-366CC97F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C6F02-A084-4936-B7F3-376E73D9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611C1-D245-4FAF-B0B1-5F506682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88114-E955-4B01-B4F9-BBB919AC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FD9-844E-474E-AD2E-28E75690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FF271-A03A-4207-8612-5819E269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DAFDF-5C85-4996-928D-4859E212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172D-9F71-4420-AB52-43407D23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7D465-75FD-4FB3-A6CA-08D60A5D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25641-613D-4C80-916B-D99B8A38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AC790-064F-424B-9AC1-B401B084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824F-16D6-437B-B7DC-E5214453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6C9B0-482E-440B-945E-D69A910D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D18F3-5898-4790-98C0-68C33878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8AE7F-ABF1-4852-A2BA-28C5EDE3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F32-487E-4EA5-97C2-4CDB65D7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38B14-812A-4FEC-B31F-6699AE45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2C644-BBE9-423C-80A2-AD1692A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25C8-40A3-4C5E-882C-E4C5E6B8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D9B88-3689-4EC8-A866-91B7C493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F242A-54FB-4DA6-8BAD-B2A99F76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D916-6460-454D-9058-414F5C2C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20CF9-45BE-4EBE-95F3-5A6DA411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3413E-A3D0-4FE3-B9D3-72C53B69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E4F86-8912-4224-8DBB-02C84A4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6E280-46F9-4DB4-A0A8-7FF6B48D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3A5-EA02-4DA5-93E2-EB351DC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34661-C574-40D4-AEC0-BDECC130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477AE-A926-4227-A6AF-EEBD6C55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01FCB-ED61-42F5-932E-D49DE8D5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12D58-4EA2-4C6A-A6A8-544BB16C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BE733-A610-4574-BB28-90261B12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7E4C2-CD79-425E-8B50-D7267E77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3D84-B3A8-406A-A69E-DD4A433F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2CEE-6991-48CB-9FAD-EBE2829B62D2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9E6D-3AE3-4DBE-B9B4-C85C4A178E4E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7B47-18A2-4CC7-BB74-EA59D57AD972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DE22-7A48-4802-8652-72DFB5A8B6FA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07D1-DD31-49FB-9C20-22DF34D27BBB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98FA-99C7-471C-A049-8FCA4BE20867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BF4-F34B-4169-9408-0777F371FEF3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6649-B5B2-4C6D-B6A5-D9E0AF3BAB8D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icrosoft.com/Education/en-us/teachers/plans/Pages/index.asp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ctivities 2 &amp; 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crosoft provides a variety of lesson plans available for teach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Lesson plans for 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evaluated three plans using the TIP checkli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ssons were technology depend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ative advantag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sy to mod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ore resources avail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sy to manipulate the infor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88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ssons had clear objectives for the stud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ar match between objectives and assess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sessments were well design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sy to make lessons individual or group bas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meframes were well establis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chnology enhances student lea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need to create our own strategies based on our class composi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es of equipment and software needed were well outlin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meframe for technology was cle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ources are commonly availa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mplates are provided for the software needed to complete the les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ould print hard copies for a back-up pl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clear in the lesson how to protect students privacy and safe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is no evidence that the lesson plans have been field tested and revis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5:41:03Z</dcterms:created>
  <dc:creator>ladmin</dc:creator>
  <dc:description/>
  <dc:language>en-US</dc:language>
  <cp:lastModifiedBy>Mike</cp:lastModifiedBy>
  <dcterms:modified xsi:type="dcterms:W3CDTF">2012-07-19T20:09:39Z</dcterms:modified>
  <cp:revision>2</cp:revision>
  <dc:subject/>
  <dc:title>Chapter 7</dc:title>
</cp:coreProperties>
</file>